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4322-1EC8-4F27-89AA-E16A85B2855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5EBA-1067-4BE4-BE8E-65A589CC3E8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EE2B-1FE9-4652-90C2-72A1F9CD68D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0668-6E22-451A-B1AF-15AAA3FC52F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5E16-2E19-4C36-BE40-AE40E5848EB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26E-3709-4087-9194-A8E7FFA0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87B-97BE-41A7-8F2F-42437631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1FC-9BCB-4749-8156-B1A890F9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6B4A-ABFE-4518-A8DF-4CCC7F2E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67B8-B49F-41D7-94DD-4D2744B9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931A-0257-4DA9-81D4-7956C979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C03C-3A3B-49F1-BD80-4FF3BDE3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83F3-FA79-4FAF-8535-76FD6671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87D5-EC18-4AED-B24C-1F3B5658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354C-358B-417B-85C7-5B7FA0A0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2667-B2D0-4F89-92D0-824F78E4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92C-9A88-4E3D-B04B-4AE54F59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D8C7-6C3C-40CC-BC40-0A2F3EC7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3690-16E2-4F77-9067-7E039CC0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E49A-3C3F-4D20-BE8E-0AF723D5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312D-C6F5-4EC0-87AC-0E5999E5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1752-E0D7-4444-BEBD-106034AA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07B9-43DA-40F3-8EDE-BA6FE51E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0175-FBDD-48C3-9562-1BF03D3E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19B9-E319-49B1-A0F6-A1D72E0A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9132E-FE7C-4558-8869-B91F152F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9ADDB-297D-41FC-A86D-2D7098E4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E89-42DE-46A8-929F-FB4A2575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6FA2A-B9AB-42D7-B1E7-C7896E78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3E5D-7B99-4152-8883-47C89455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5ABA-C03A-477E-A0D1-11262787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94A02-12F2-4EDF-B6E3-E15E1A8F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7CCCA-6049-4FC9-BE6D-757DFEED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BA53-4F92-4024-A5CD-08DA9D63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EC3E-40EA-41C4-ACF2-F7BA0682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56A14-D633-4EE5-AFE5-76FDBE5C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3181-957D-49E1-A690-14C916B0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3A6F9-0795-4E8C-8275-4F71626E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42B-3DCA-4B6C-A861-20E85A5F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C3F5-30EA-4A6D-AFE2-F1CB86AF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CA5BB-D477-4DEC-86A8-32062E15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53F61-642D-4E60-BAFD-4F9D1114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6DC5-344F-4382-B017-859AA400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982C-8161-4F5B-83A6-906526F8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8EDD-620D-4FB5-A706-EB749613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647BA-72F4-45AB-A40D-9192A233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A19DD-D896-4B93-AB4B-800E9D33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BD927-1EDA-4A3D-AE74-849FA7C4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985F8-87CE-48B4-8F55-59BBD300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EC0-A7CD-4015-B2D0-A50E87DF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3425B-EDD4-44DA-B825-8C5EC205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91FF-2103-4F8A-A30B-328DB776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3BCBD-B11C-4658-9528-462FB5DD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0C6B2-09B1-44A1-BE36-E6951A73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52300-CDB8-4B97-B46C-C12249EB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4FFBC-47F8-42DC-A43F-9C475AB3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88098-271D-47E8-A720-B4EE8F60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EFDF2-1AE9-4988-9575-62642CE0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4B039-AD6E-46C7-8F89-88043F40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23706-3FBC-483B-8EA5-28E660F4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DB5-E3F4-44D9-93AA-BC6B8544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6F36F-B7F0-4F68-9DD5-A40C9E6A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7462E-B857-4288-A945-90C7899F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0B21E-044D-4DA3-AB0D-71191BAD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B0B25-D363-41C6-AC7B-B7B68A22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DCFAE-9B8A-47A9-A718-272FFFBE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24B2E-E979-49A9-B7FD-2FF89235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3EF10-889E-47CD-9DB8-6D149F02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0FEF3-201A-4FE0-94AD-267843D4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10A50-C555-40B1-9C23-99FEDF68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C75AB-F9D7-4159-8E9E-39C5903A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514-6EA2-40C8-A684-7404C4F4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4E93F-82F1-4990-907F-5DDB7319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E5B84-9BE0-41BE-AD85-417BE238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70F3F-9181-49B4-8CC5-9417F155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EA9-6F38-4B89-91FF-5CE80383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74A-8BC0-4569-B881-C007F9C5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27D1-89A9-4568-B82B-1D8C834CA44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E6C0-9390-4374-A4F6-2E12E48A5EB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58C6-4C99-4698-9276-AABD2562EA4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BAD2-3068-400C-8F6E-868126F6CF84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72C9-B97B-43FB-8EDF-2F4B7ABACCB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35E4-342C-445D-A570-7B4DDBA9C97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EAF7-45EC-4853-A01D-74E422B7F6D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84F4-4E7C-43BB-A7AE-438EBAB475C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510E-D793-4AC2-ACB2-15C6AE73304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C4D5-11AC-476B-B467-4C85E97174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5EEF-ED8F-4E65-9CA3-7FADF41BFFF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AC82-71B7-4894-9BD7-D10AE4F248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000000"/>
                </a:solidFill>
                <a:latin typeface="Arial"/>
              </a:rPr>
              <a:t>Aposentados/as que exercem atividade remuner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479520" y="936720"/>
            <a:ext cx="108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muneração Média Nominal em R$ por Tipo de Desligamento e Faixa Etária na Aposentadoria* CLT - RAIS/2015 – Posição Dezembro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63600" y="6210360"/>
            <a:ext cx="108014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Gráfico 6"/>
          <p:cNvGraphicFramePr/>
          <p:nvPr/>
        </p:nvGraphicFramePr>
        <p:xfrm>
          <a:off x="573120" y="1344600"/>
          <a:ext cx="10326600" cy="485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Gráfico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344600"/>
                    <a:ext cx="1032660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765000"/>
            <a:ext cx="1080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Secretaria de Previd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Subsecretaria de Regime Geral de Previdência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Coordenação-Geral de Estudos Previdenci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 </a:t>
            </a: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(61) 2021-5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34800" y="684360"/>
            <a:ext cx="10730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 por Aposentadoria* e UF –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34800" y="6235560"/>
            <a:ext cx="1044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71520" y="1268280"/>
          <a:ext cx="6408720" cy="4969080"/>
        </p:xfrm>
        <a:graphic>
          <a:graphicData uri="http://schemas.openxmlformats.org/drawingml/2006/table">
            <a:tbl>
              <a:tblPr/>
              <a:tblGrid>
                <a:gridCol w="1524240"/>
                <a:gridCol w="1331640"/>
                <a:gridCol w="1330560"/>
                <a:gridCol w="1260360"/>
                <a:gridCol w="961920"/>
              </a:tblGrid>
              <a:tr h="254160"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 de Vínculos Ativos por Aposentadoria* CLT - RAIS 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4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o Deslig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Tempo de Contribuiçã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por Ida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Especi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ô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o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rai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p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nh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u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ar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Nor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71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b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ambu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go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i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12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as Gera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írito Sa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au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a Catar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S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 do S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á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to Feder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1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8183520" y="1349280"/>
          <a:ext cx="1928880" cy="4876920"/>
        </p:xfrm>
        <a:graphic>
          <a:graphicData uri="http://schemas.openxmlformats.org/drawingml/2006/table">
            <a:tbl>
              <a:tblPr/>
              <a:tblGrid>
                <a:gridCol w="1436760"/>
                <a:gridCol w="492120"/>
              </a:tblGrid>
              <a:tr h="247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ra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p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ô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nh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go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N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u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i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a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to Fed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írito Sa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ambu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a Catar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as Ger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07880" y="765000"/>
            <a:ext cx="10850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de Vínculos Ativos por Aposentadoria* -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000080" y="6288120"/>
            <a:ext cx="1022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Gráfico 4"/>
          <p:cNvGraphicFramePr/>
          <p:nvPr/>
        </p:nvGraphicFramePr>
        <p:xfrm>
          <a:off x="1652760" y="1219320"/>
          <a:ext cx="7788240" cy="50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219320"/>
                    <a:ext cx="778824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por Setor de Atividade e Faixa Etária -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95160" y="1773360"/>
          <a:ext cx="10887120" cy="3070080"/>
        </p:xfrm>
        <a:graphic>
          <a:graphicData uri="http://schemas.openxmlformats.org/drawingml/2006/table">
            <a:tbl>
              <a:tblPr/>
              <a:tblGrid>
                <a:gridCol w="1400400"/>
                <a:gridCol w="1222200"/>
                <a:gridCol w="1222560"/>
                <a:gridCol w="1157040"/>
                <a:gridCol w="882720"/>
                <a:gridCol w="917640"/>
                <a:gridCol w="1025640"/>
                <a:gridCol w="1528560"/>
                <a:gridCol w="1530360"/>
              </a:tblGrid>
              <a:tr h="341280">
                <a:tc gridSpan="9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 de Vínculos Ativos por Aposentadoria* e Setor Atividade CLT - RAIS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88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xa Etá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8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GE Se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tiva mi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ústria de transform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 industriais de utilidade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ção Civ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ér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ção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pecuária, extração vegetal, caça e pes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39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 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a 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6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e 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5" name="CaixaDeTexto 2"/>
          <p:cNvSpPr/>
          <p:nvPr/>
        </p:nvSpPr>
        <p:spPr>
          <a:xfrm>
            <a:off x="450720" y="5877000"/>
            <a:ext cx="989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 Foi estabelecido um intervalo maior de faixa etária devido a erros de preenchimento na RAIS, o que explica a existência de aposentadoria em idades muito preco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0720" y="6143760"/>
            <a:ext cx="1044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587520" y="932040"/>
            <a:ext cx="108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 de Vínculos Ativos* por Setor de Atividade -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479520" y="6202440"/>
            <a:ext cx="1080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Gráfico 7"/>
          <p:cNvGraphicFramePr/>
          <p:nvPr/>
        </p:nvGraphicFramePr>
        <p:xfrm>
          <a:off x="2228760" y="1511280"/>
          <a:ext cx="751860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Grá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511280"/>
                    <a:ext cx="75186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23880" y="836640"/>
            <a:ext cx="105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 por Faixa de Remuneração (Salário Mínimo) e Sexo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15880" y="6211800"/>
            <a:ext cx="1116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23880" y="1989000"/>
          <a:ext cx="10585440" cy="2052720"/>
        </p:xfrm>
        <a:graphic>
          <a:graphicData uri="http://schemas.openxmlformats.org/drawingml/2006/table">
            <a:tbl>
              <a:tblPr/>
              <a:tblGrid>
                <a:gridCol w="1012680"/>
                <a:gridCol w="681120"/>
                <a:gridCol w="722520"/>
                <a:gridCol w="725400"/>
                <a:gridCol w="668160"/>
                <a:gridCol w="736560"/>
                <a:gridCol w="736920"/>
                <a:gridCol w="722160"/>
                <a:gridCol w="654120"/>
                <a:gridCol w="654120"/>
                <a:gridCol w="653760"/>
                <a:gridCol w="654120"/>
                <a:gridCol w="655560"/>
                <a:gridCol w="654120"/>
                <a:gridCol w="654120"/>
              </a:tblGrid>
              <a:tr h="3970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1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xa de Remuner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0.5 a 1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 a 1.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.5 a 2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 a 3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 a 4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 a 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 a 7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 a 1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 a 1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5 a 2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ñ class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97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de Vínculos  Ativos* por Faixa de Remuneração (Salário Mín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34800" y="6350040"/>
            <a:ext cx="1039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Gráfico 4"/>
          <p:cNvGraphicFramePr/>
          <p:nvPr/>
        </p:nvGraphicFramePr>
        <p:xfrm>
          <a:off x="233280" y="1506600"/>
          <a:ext cx="105444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506600"/>
                    <a:ext cx="105444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44520" y="606600"/>
            <a:ext cx="11053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por Faixa de Remuneração (Salário Mínimo) e Sexo CLT - RAIS 2015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34800" y="6334200"/>
            <a:ext cx="1130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Gráfico 5"/>
          <p:cNvGraphicFramePr/>
          <p:nvPr/>
        </p:nvGraphicFramePr>
        <p:xfrm>
          <a:off x="896760" y="1300320"/>
          <a:ext cx="10182240" cy="51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Grá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300320"/>
                    <a:ext cx="1018224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987480" y="765000"/>
            <a:ext cx="1007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muneração Média Nominal em R$ por Tipo de Desligamento e Faixa Etária na Aposentadoria* CLT - RAIS/2015 - Posição Dezembro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ângulo 2"/>
          <p:cNvSpPr/>
          <p:nvPr/>
        </p:nvSpPr>
        <p:spPr>
          <a:xfrm>
            <a:off x="987480" y="6093000"/>
            <a:ext cx="10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127160" y="1773360"/>
          <a:ext cx="9793080" cy="3887640"/>
        </p:xfrm>
        <a:graphic>
          <a:graphicData uri="http://schemas.openxmlformats.org/drawingml/2006/table">
            <a:tbl>
              <a:tblPr/>
              <a:tblGrid>
                <a:gridCol w="1461960"/>
                <a:gridCol w="2210040"/>
                <a:gridCol w="1800000"/>
                <a:gridCol w="2521080"/>
                <a:gridCol w="1800000"/>
              </a:tblGrid>
              <a:tr h="8920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ção Média Nominal em R$ por Tipo  de Desligamento e Faixa Etária na Aposentadoria* CLT - RAIS/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Tempo de Contribui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por 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Espe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9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6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06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68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1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07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70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4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a 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81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9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7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e 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22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2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62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53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3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3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9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2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8-04T17:02:49Z</dcterms:modified>
  <cp:revision>455</cp:revision>
  <dc:subject/>
  <dc:title>Demografia</dc:title>
</cp:coreProperties>
</file>